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5D47-C21F-41DA-90C8-99CF6462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025-070E-4F77-883A-6C10AD16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0098-641B-4744-B561-CF8871EC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8B4-FB44-4744-8D3D-27FDC895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B5D-8C48-4775-8758-73B1DB4C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4933-6087-439C-9F56-ADB878C9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149F-F7DF-42FF-9F94-ED3EC259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0D8B-224A-4C2C-AD96-D7AB798F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D2E4-6B82-4586-8A5A-C7BDE6A4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AFDD-AD37-4F93-8696-164FB69B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169-CCDE-40E3-9C05-AF823627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4EEC-C52F-4294-8074-34BDE8FB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DC48-00F8-419D-AB2C-C18A8C50A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9144000" cy="58672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46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s usamos p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car el pi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presar complic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rugar</a:t>
                      </a: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la fr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a de comunicación  usando </a:t>
                      </a: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es del 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jar mala sue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ar simpat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ar enf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entir con la cabe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ner una cosa sobre otra en forma de cru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usamos para 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ñal de mal hum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otarse las ma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uzar los de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ñar un oj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uncir el ce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ge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0" y="5867280"/>
          <a:ext cx="9144000" cy="990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UNICACIÓN NO VERB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45" name="Rectangle 6"/>
          <p:cNvSpPr/>
          <p:nvPr/>
        </p:nvSpPr>
        <p:spPr>
          <a:xfrm>
            <a:off x="0" y="0"/>
            <a:ext cx="220968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Calibri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523880"/>
            <a:ext cx="2286000" cy="1295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Calibri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2971800"/>
            <a:ext cx="22860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Calibri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4419720"/>
            <a:ext cx="220968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362320" y="0"/>
            <a:ext cx="213336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Calibri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2362320" y="1523880"/>
            <a:ext cx="2209680" cy="1295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Calibri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2362320" y="3048120"/>
            <a:ext cx="213336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Calibri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2362320" y="4495680"/>
            <a:ext cx="2209680" cy="1295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4648320" y="0"/>
            <a:ext cx="213336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4648320" y="1523880"/>
            <a:ext cx="2209680" cy="1295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4572000" y="2971800"/>
            <a:ext cx="22860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648320" y="4495680"/>
            <a:ext cx="2209680" cy="1295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6934320" y="0"/>
            <a:ext cx="220968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6934320" y="1523880"/>
            <a:ext cx="2209680" cy="1295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Calibri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6934320" y="2971800"/>
            <a:ext cx="220968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Calibri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6934320" y="4495680"/>
            <a:ext cx="2209680" cy="1295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1676520" y="6019920"/>
            <a:ext cx="5867280" cy="685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Calibri"/>
              </a:rPr>
              <a:t>SOLUCI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Ó</a:t>
            </a:r>
            <a:r>
              <a:rPr b="0" lang="sr-Latn-RS" sz="1800" spc="-1" strike="noStrike">
                <a:solidFill>
                  <a:srgbClr val="ffffff"/>
                </a:solidFill>
                <a:latin typeface="Calibri"/>
              </a:rPr>
              <a:t>N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3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3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5T20:21:57Z</dcterms:created>
  <dc:creator>Nata Iva</dc:creator>
  <dc:description/>
  <dc:language>en-US</dc:language>
  <cp:lastModifiedBy>Nata Iva</cp:lastModifiedBy>
  <dcterms:modified xsi:type="dcterms:W3CDTF">2013-11-15T22:54:01Z</dcterms:modified>
  <cp:revision>17</cp:revision>
  <dc:subject/>
  <dc:title>Slide 1</dc:title>
</cp:coreProperties>
</file>